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936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1140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732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936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1140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33400" y="75960"/>
            <a:ext cx="7677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936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1140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732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936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1140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33400" y="75960"/>
            <a:ext cx="7677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838080"/>
            <a:ext cx="9906120" cy="0"/>
          </a:xfrm>
          <a:prstGeom prst="line">
            <a:avLst/>
          </a:prstGeom>
          <a:ln w="38160">
            <a:solidFill>
              <a:srgbClr val="c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7119000" y="608796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 Internal Data - Strictly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9906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6520" y="6354720"/>
            <a:ext cx="1419120" cy="436680"/>
          </a:xfrm>
          <a:prstGeom prst="rect">
            <a:avLst/>
          </a:prstGeom>
          <a:ln w="0">
            <a:noFill/>
          </a:ln>
        </p:spPr>
      </p:pic>
      <p:pic>
        <p:nvPicPr>
          <p:cNvPr id="6" name="band" descr=""/>
          <p:cNvPicPr/>
          <p:nvPr/>
        </p:nvPicPr>
        <p:blipFill>
          <a:blip r:embed="rId3"/>
          <a:stretch/>
        </p:blipFill>
        <p:spPr>
          <a:xfrm>
            <a:off x="0" y="6337440"/>
            <a:ext cx="9988560" cy="5205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208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85720" y="1600200"/>
            <a:ext cx="7677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-360" y="6324480"/>
            <a:ext cx="9906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156520" y="6354720"/>
            <a:ext cx="1419120" cy="436680"/>
          </a:xfrm>
          <a:prstGeom prst="rect">
            <a:avLst/>
          </a:prstGeom>
          <a:ln w="0">
            <a:noFill/>
          </a:ln>
        </p:spPr>
      </p:pic>
      <p:pic>
        <p:nvPicPr>
          <p:cNvPr id="47" name="band" descr=""/>
          <p:cNvPicPr/>
          <p:nvPr/>
        </p:nvPicPr>
        <p:blipFill>
          <a:blip r:embed="rId3"/>
          <a:stretch/>
        </p:blipFill>
        <p:spPr>
          <a:xfrm>
            <a:off x="0" y="6337440"/>
            <a:ext cx="9988560" cy="52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2084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19000" y="608796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 Internal Data - Strictly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057400"/>
            <a:ext cx="9067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DC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Test Description C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53000" y="5584680"/>
            <a:ext cx="41911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SH version 1.4 - duration </a:t>
            </a: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est Case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nt</a:t>
            </a: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SEND(), AWAIT(), TIMEOUT(), MUTE(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mitive specification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(assignment of val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da-DK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_PRIMITIVE_UNION any_primitive(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8 x_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_ANY_PRIMITIVE any_p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y_prim-&gt;my_integer = 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_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y_prim-&gt;my_struct.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_member = 2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urn any_p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example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C used as an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04440" y="75960"/>
            <a:ext cx="840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 Black"/>
              </a:rPr>
              <a:t>How to compile, build and execute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7320" y="1582200"/>
            <a:ext cx="94107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dd option ”tdclib” when calling makcd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Build xxx_tdc projects (VS6 or mkalltc.ba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xecution and trac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A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Tap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PCO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Arial Black"/>
              </a:rPr>
              <a:t>Pratical Requirements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Visual Studio 6 with Service Pack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nfig spec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lement \g23m\condat\int\bin\... MAKCDG_T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lement /gpf/... TDC_1.1.4_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lement \gpf\BIN\ccdgen.exe CCDGEN_2.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element /gpf/... TAP_2.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include //hokus/csi/gpf_13b.c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nverted documents at \csh_g23m_S200_view_devbr under \g23m\condat\ms\src\XX\test_x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Possible future feature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est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Reuse of received constraint val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UT() -&gt; specify the ”Module Under Test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LT -&gt; alternative sequences (like ”if/else” on primitive leve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Workshop – who does what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nverted documen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CI, ACIAAA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ICC, ACIPHB, ACIS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R, GA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D, FA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2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R (1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L, RR (Martin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ocuments to conve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C, MM, SM, SS +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573120" y="635040"/>
            <a:ext cx="884556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D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ool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es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Case defin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of converted test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ratic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mpiling, building and exec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futur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What is TDC?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5800" y="716040"/>
            <a:ext cx="8391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anguage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for test case spec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It 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vides a subset of TTCN fea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ests are structured like in TTC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de is 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ritten in C an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able with a standard C++ compiler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(VS 6 or VS 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User documentation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7320" y="1117440"/>
            <a:ext cx="9410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esign documentation (highlevel and lowlev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\gpf\util\tap\tdc\doc </a:t>
            </a:r>
            <a:br>
              <a:rPr sz="2400"/>
            </a:b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DC user guid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\gpf\doc\tdc\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434_510_02_tdc_user_guide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TDS to TDC user guide (conver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\gpf\doc\tdc\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434_513_02_tds_to_tdc_user_guide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est tool chain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63680" y="914400"/>
          <a:ext cx="717876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3680" y="914400"/>
                    <a:ext cx="71787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features/advantages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7320" y="826920"/>
            <a:ext cx="9410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ergeable, C-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Errors discovered compile-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nstraint 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dulari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onstraints parameterization (Like TTC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 completion (context type awareness) (VS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 order is not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 actions are default SK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 expansion ( VS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P and ONFAIL statements (Like TTC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PCO(src, dst) -&gt; specify and check sender of primitives.</a:t>
            </a:r>
            <a:r>
              <a:rPr b="0" lang="da-D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structure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Groups, Cases, Steps and Events (like TTCN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11760" y="1746360"/>
            <a:ext cx="219060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GROUP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47920" y="2494080"/>
            <a:ext cx="7277040" cy="1248120"/>
            <a:chOff x="1447920" y="2494080"/>
            <a:chExt cx="7277040" cy="1248120"/>
          </a:xfrm>
        </p:grpSpPr>
        <p:sp>
          <p:nvSpPr>
            <p:cNvPr id="104" name=""/>
            <p:cNvSpPr/>
            <p:nvPr/>
          </p:nvSpPr>
          <p:spPr>
            <a:xfrm>
              <a:off x="1447920" y="2879640"/>
              <a:ext cx="2190600" cy="86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CAS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81600" y="2879640"/>
              <a:ext cx="2190600" cy="76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CASE 2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34000" y="2878200"/>
              <a:ext cx="2190960" cy="76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CASE n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359160" y="2500200"/>
              <a:ext cx="56520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67360" y="2558880"/>
              <a:ext cx="144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08840" y="2494080"/>
              <a:ext cx="68580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647800" y="3711600"/>
            <a:ext cx="4908600" cy="1075320"/>
            <a:chOff x="2647800" y="3711600"/>
            <a:chExt cx="4908600" cy="1075320"/>
          </a:xfrm>
        </p:grpSpPr>
        <p:sp>
          <p:nvSpPr>
            <p:cNvPr id="111" name=""/>
            <p:cNvSpPr/>
            <p:nvPr/>
          </p:nvSpPr>
          <p:spPr>
            <a:xfrm>
              <a:off x="5365800" y="4083120"/>
              <a:ext cx="21906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STEP n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24360" y="3738600"/>
              <a:ext cx="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83080" y="3714840"/>
              <a:ext cx="144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51360" y="457200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31080" y="371160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47800" y="4070520"/>
              <a:ext cx="21909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STEP 1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441440" y="3743280"/>
            <a:ext cx="7292880" cy="2086560"/>
            <a:chOff x="1441440" y="3743280"/>
            <a:chExt cx="7292880" cy="2086560"/>
          </a:xfrm>
        </p:grpSpPr>
        <p:sp>
          <p:nvSpPr>
            <p:cNvPr id="118" name=""/>
            <p:cNvSpPr/>
            <p:nvPr/>
          </p:nvSpPr>
          <p:spPr>
            <a:xfrm>
              <a:off x="1441440" y="5126040"/>
              <a:ext cx="21844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EVENT 1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6320" y="5126040"/>
              <a:ext cx="21780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EVENT n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82960" y="3743280"/>
              <a:ext cx="0" cy="138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19320" y="47815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959160" y="4800600"/>
              <a:ext cx="1800" cy="34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75120" y="5126040"/>
              <a:ext cx="22035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000" spc="-1" strike="noStrike">
                  <a:solidFill>
                    <a:srgbClr val="000000"/>
                  </a:solidFill>
                  <a:latin typeface="Arial"/>
                </a:rPr>
                <a:t>EVENT 2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86320" y="47815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05640" y="480060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est Case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Ca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se is series of events and/or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T_CASE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Courier New"/>
              </a:rPr>
              <a:t>R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200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{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BEGIN_CASE (”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Courier New"/>
              </a:rPr>
              <a:t>Test someth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")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tup_routing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ND ( any_primitive(100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AWAIT ( any_other_primitive(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ND ( any_primitive(200) );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 ……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DC (Test Description Code)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Arial Black"/>
              </a:rPr>
              <a:t>Test Case</a:t>
            </a:r>
            <a:endParaRPr b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ep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tep is series of events and/or other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T_STEP setup_routing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BEGIN_STEP(“Setup_routing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COMMAND(“RR RESET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SEND(any_other_primitive()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09:24:25Z</dcterms:created>
  <dc:creator>mbj</dc:creator>
  <dc:description/>
  <dc:language>en-US</dc:language>
  <cp:lastModifiedBy>Administrator</cp:lastModifiedBy>
  <cp:lastPrinted>2002-08-02T09:04:44Z</cp:lastPrinted>
  <dcterms:modified xsi:type="dcterms:W3CDTF">2003-05-26T06:44:08Z</dcterms:modified>
  <cp:revision>344</cp:revision>
  <dc:subject>WCS products</dc:subject>
  <dc:title>No Slide Title</dc:title>
</cp:coreProperties>
</file>